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B97-D697-4DBE-9C12-5789C2E8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B4F-8FC1-4BBC-99BC-460AB5EB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58C-1C46-4EA6-A263-0E7F20C2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D21-FFA5-4C11-A405-97D80D0E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A770-21EE-40E0-A290-E63D0C61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D26A-2D4A-4D92-A406-23E63411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9955-1990-448C-A0AC-B6D81BC1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BEC1-E4D2-4CE6-8B56-44F48012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4725-F7E1-4F97-AE4D-E85FADA9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E32C-416E-4F46-9E67-2D15F2C3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A139-FFD5-4E0A-AD99-762FF911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EDF-6FD8-4563-8513-36D6EB1D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3D65-C9B3-470A-A7F2-B0199014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DAD5-3C3B-40E8-A568-5E058892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58C6-ED86-44F0-B9A5-8D4F2E9D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A172-5F38-4936-BC39-997B74E4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A6FA-5AC7-438B-9F5B-875145C2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6046-1BA3-4227-A1BE-93526ADA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8D0B-3B03-42AB-8C0C-0354A473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5C9-E209-412C-B11A-7793FE63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6BA-2E56-4FAB-A4DC-8D0CAFAF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9D6-5ABD-40EF-9CD5-F651BBA3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9F0-C0A7-4EDD-93AB-9C0CE97C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06C-6E98-4932-BC7E-33561F88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BD17-D079-492F-BFC3-D881CFEC323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04C6-59D7-482A-8E42-CD89FC51189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mmunity/School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artnership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6765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Drawing upon the resources of the entire community in meeting the academic &amp; youth development needs of our childre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418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ducational support activit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ternative to Suspension -- Mary Rig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utoring &amp; Homework Assistance -- Lilly, IPL, Mary Rigg, Hawthorne, Christamore House, IUPUI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114800" y="41911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90920" y="7632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651040" y="46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15600" y="-10598040"/>
            <a:ext cx="457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3733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fter-School Program -- Hawthorne Center,  Indy Parks &amp; Recreation, Young Audien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wimming -- Partnering with Indy Park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ife’s Transitions Inc. -- 21st Century Scholars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Impact"/>
              </a:rPr>
              <a:t>(91% signed up last year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ore educational support activit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omputers for Kids -- achievement incentives, after-school activit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een Health Clinic -- HealthNet nurse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actitioners funded by Lill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eace Initiative -- Mary Rigg/AmeriCorp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est Indy Teens -- Friday night middle school community service-based club at Mary Rig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ntal Services -- Dr. Jeffrey Jorda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SHINGT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dditional suppor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ven Start, GED, ESL Class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UPUI College Prep Initiative &amp; America Rea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Hispanic Social Service Club for Paren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idtown Community Mental Health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PS Gang Prevention/Community Polic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illy Clothe a Chil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ational Starch Westside Science Progra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29200" y="2286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 </a:t>
            </a:r>
            <a:br>
              <a:rPr sz="4000"/>
            </a:b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 </a:t>
            </a:r>
            <a:br>
              <a:rPr sz="4000"/>
            </a:b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o Excuses Schoo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arent Cente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amily Nights </a:t>
            </a:r>
            <a:r>
              <a:rPr b="0" i="1" lang="en-US" sz="2800" spc="-1" strike="noStrike">
                <a:solidFill>
                  <a:srgbClr val="ffffff"/>
                </a:solidFill>
                <a:latin typeface="Impact"/>
              </a:rPr>
              <a:t>(265 show up for Bingo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ommunity Roo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ull-time Community School Coordinato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e model IPS Bridges to Success schoo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oes this really enhance achievement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601"/>
              </a:spcBef>
              <a:buClr>
                <a:srgbClr val="01b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umber of students in 6th grade meeting state standard in language arts increased from 15% to 25%, in math the number rose from 26% to 44%, and the number of students passing both increased from 11% to 21%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601"/>
              </a:spcBef>
              <a:buClr>
                <a:srgbClr val="01b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umber of students in 8th grade meeting state standard in language arts increased from 27% to 33%, in math the number rose from 12% to 42%, and the number of students passing both increased from 9% to 24%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uture family-focused program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16680" indent="-2372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omputer building for famili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16680" indent="-2372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amily computer nigh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avigating the Interne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asic word processin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16680" indent="-2372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Bicycle repair projec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16680" indent="-2372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ultural enrichment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16680" indent="-2372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Health/wellness, nutrition educ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16680" indent="-2372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ine dancing, arts &amp; crafts, job skills, etc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943600" y="31813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6th through 12th grade growth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maller, personal learning environmen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ncrease academic success, more graduat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eper H.S. parent/community engage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ear-round/alternative schedule interes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ign with feeder elementary school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ademic &amp; youth development enrichment during breaks </a:t>
            </a:r>
            <a:r>
              <a:rPr b="0" i="1" lang="en-US" sz="2800" spc="-1" strike="noStrike">
                <a:solidFill>
                  <a:srgbClr val="ffffff"/>
                </a:solidFill>
                <a:latin typeface="Impact"/>
              </a:rPr>
              <a:t>(partners already committed 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iteracy is critica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Build all programs around literacy effor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et state &amp; national standar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upport our children &amp; families, building strong communit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3504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mmunity/School Partnership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rassroots “school reform”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chool viewed as focus of the commun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mmunity viewed as vital support in the success of studen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llaboration is ke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dentify resources in the communit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dentify student/family nee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nvite Stakeholders to the Tabl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mmunity/school committees or  initially a taskforc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arents, interested community member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rvice providers (youth &amp; family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Government, business, faith-based rep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udents, teachers, school staff, alumni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nyone with an interest in improving education and lives of children and famili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llabora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t aside “turf” issues -- define your miss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is is for the childre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is is about improving academic achieve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is is about positive youth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is is about community economic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on’t be afraid to confront challenges -- that’s the point: reduce barriers to academic achievement &amp; positive youth developmen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dentify challeng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rainstorm ideas to address the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ogether you can accomplish things you can’t do alon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Do We Know We Get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eeded services for children &amp; famil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rograms providing positive youth development opportunit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creased parent, community involvemen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creased school attendanc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ecreased suspensions, expulsions, behavior problem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Else Do We Get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achers feel better supported so that they can teach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arents &amp; community leaders feel good about the school in the neighborhoo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udents see that schools really do car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mmunities see education in better light &amp; college becomes part of their vocabular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unders more positive about suppor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952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1371600"/>
            <a:ext cx="7086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Serving students and their families through community partner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mmunity school  --  community partner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chool as focus of the neighborhoo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estside community deeply committed to education &amp; youth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estside Education Task Force, WINC, WES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et monthly  as Community Committe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shington HS Alumni Associ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UPUI &amp; 3 Community Centers within 1 mil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34 partners provide $4.2 million in servi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18:09:21Z</dcterms:created>
  <dc:creator>Indianapolis Public Schools</dc:creator>
  <dc:description/>
  <dc:language>en-US</dc:language>
  <cp:lastModifiedBy>Administrator</cp:lastModifiedBy>
  <cp:lastPrinted>2002-03-22T14:59:09Z</cp:lastPrinted>
  <dcterms:modified xsi:type="dcterms:W3CDTF">2009-10-30T17:35:39Z</dcterms:modified>
  <cp:revision>24</cp:revision>
  <dc:subject/>
  <dc:title>WASHINGTON MIDDLE SCHOOL</dc:title>
</cp:coreProperties>
</file>